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26.jpeg" ContentType="image/jpeg"/>
  <Override PartName="/ppt/media/image3.png" ContentType="image/png"/>
  <Override PartName="/ppt/media/image5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6.jpeg" ContentType="image/jpeg"/>
  <Override PartName="/ppt/media/image50.jpeg" ContentType="image/jpeg"/>
  <Override PartName="/ppt/media/image40.jpeg" ContentType="image/jpeg"/>
  <Override PartName="/ppt/media/image13.jpeg" ContentType="image/jpeg"/>
  <Override PartName="/ppt/media/image17.jpeg" ContentType="image/jpeg"/>
  <Override PartName="/ppt/media/chimes.wav" ContentType="audio/x-wav"/>
  <Override PartName="/ppt/media/image16.jpeg" ContentType="image/jpeg"/>
  <Override PartName="/ppt/media/image60.jpeg" ContentType="image/jpeg"/>
  <Override PartName="/ppt/media/image37.jpeg" ContentType="image/jpeg"/>
  <Override PartName="/ppt/media/image25.jpeg" ContentType="image/jpeg"/>
  <Override PartName="/ppt/media/image41.jpeg" ContentType="image/jpeg"/>
  <Override PartName="/ppt/media/image1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62.gif" ContentType="image/gif"/>
  <Override PartName="/ppt/media/image45.jpeg" ContentType="image/jpeg"/>
  <Override PartName="/ppt/media/image42.jpeg" ContentType="image/jpeg"/>
  <Override PartName="/ppt/media/image5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61.png" ContentType="image/png"/>
  <Override PartName="/ppt/media/image5.jpeg" ContentType="image/jpeg"/>
  <Override PartName="/ppt/media/image8.jpeg" ContentType="image/jpeg"/>
  <Override PartName="/ppt/media/image39.jpeg" ContentType="image/jpeg"/>
  <Override PartName="/ppt/media/image27.jpeg" ContentType="image/jpeg"/>
  <Override PartName="/ppt/media/image10.jpeg" ContentType="image/jpeg"/>
  <Override PartName="/ppt/media/image51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32E24-1C74-4100-90F8-C9E2C592E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0AC9D-8772-41BB-B788-8EF4B031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FA4B4-DE7E-41AE-8E9C-18995B83C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5A29C-6736-4E29-8FE8-64A54F889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BCBB2-84AC-4DBA-9432-9D54ECD41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0D901-0274-496B-9212-9269F383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AFB37-FFC1-4237-B77B-C852B192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7C296-7C03-4F78-80E0-46748B5B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D9F75-A32B-480F-8D8A-B220759E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84CAF-B145-49FA-B64C-E978FD26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28387-DB93-4A4C-8DE8-C99578B5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C542C-12D7-44FF-8DE1-53665C8E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00521-AFC0-4F5B-9991-8843D0AA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4021A-B25E-41B8-AC85-4B3E5399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A43F4-881A-49A5-AF1C-9E5DFBE1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F2540-D939-4A2C-9743-A008AB892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D6387-2551-4985-8DC5-54D72CCD3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4D0A6-840F-4458-8A63-E3AB2CA7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E5177-3510-4DFC-8A5A-8A0681C9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D6F0E-4049-4B7D-B1C1-48653DA1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73D68-878E-415A-80A9-7B0C3A65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FDCB3-53BF-48ED-B8A4-080C08B5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612CB-7EFB-40AC-A7AF-D80DC6B8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9218F-1585-4FA6-89D2-76F3116A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CA4A-ED9E-4569-A068-C054A9ECEA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9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50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3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EFAC-CE79-4095-B5F8-1698349FD112}" type="slidenum">
              <a:rPr b="0" lang="ru-RU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daplus.info/produce/scomber.html" TargetMode="External"/><Relationship Id="rId2" Type="http://schemas.openxmlformats.org/officeDocument/2006/relationships/image" Target="../media/image48.jpeg"/><Relationship Id="rId3" Type="http://schemas.openxmlformats.org/officeDocument/2006/relationships/hyperlink" Target="http://edaplus.info/produce/tunny.html" TargetMode="External"/><Relationship Id="rId4" Type="http://schemas.openxmlformats.org/officeDocument/2006/relationships/image" Target="../media/image49.jpeg"/><Relationship Id="rId5" Type="http://schemas.openxmlformats.org/officeDocument/2006/relationships/hyperlink" Target="http://edaplus.info/produce/hake.html" TargetMode="External"/><Relationship Id="rId6" Type="http://schemas.openxmlformats.org/officeDocument/2006/relationships/image" Target="../media/image50.jpeg"/><Relationship Id="rId7" Type="http://schemas.openxmlformats.org/officeDocument/2006/relationships/hyperlink" Target="http://edaplus.info/produce/alaska_pollack.html" TargetMode="External"/><Relationship Id="rId8" Type="http://schemas.openxmlformats.org/officeDocument/2006/relationships/image" Target="../media/image51.jpeg"/><Relationship Id="rId9" Type="http://schemas.openxmlformats.org/officeDocument/2006/relationships/hyperlink" Target="http://edaplus.info/produce/codfish.html" TargetMode="External"/><Relationship Id="rId10" Type="http://schemas.openxmlformats.org/officeDocument/2006/relationships/image" Target="../media/image52.jpeg"/><Relationship Id="rId11" Type="http://schemas.openxmlformats.org/officeDocument/2006/relationships/hyperlink" Target="http://edaplus.info/produce/haddock.html" TargetMode="External"/><Relationship Id="rId12" Type="http://schemas.openxmlformats.org/officeDocument/2006/relationships/image" Target="../media/image53.jpeg"/><Relationship Id="rId13" Type="http://schemas.openxmlformats.org/officeDocument/2006/relationships/hyperlink" Target="http://edaplus.info/produce/capelin.html" TargetMode="External"/><Relationship Id="rId14" Type="http://schemas.openxmlformats.org/officeDocument/2006/relationships/image" Target="../media/image54.jpeg"/><Relationship Id="rId15" Type="http://schemas.openxmlformats.org/officeDocument/2006/relationships/hyperlink" Target="http://edaplus.info/produce/humpback_salmon.html" TargetMode="External"/><Relationship Id="rId16" Type="http://schemas.openxmlformats.org/officeDocument/2006/relationships/image" Target="../media/image29.jpeg"/><Relationship Id="rId17" Type="http://schemas.openxmlformats.org/officeDocument/2006/relationships/hyperlink" Target="http://edaplus.info/produce/ruff.html" TargetMode="External"/><Relationship Id="rId18" Type="http://schemas.openxmlformats.org/officeDocument/2006/relationships/image" Target="../media/image55.jpeg"/><Relationship Id="rId19" Type="http://schemas.openxmlformats.org/officeDocument/2006/relationships/image" Target="../media/image30.jpeg"/><Relationship Id="rId20" Type="http://schemas.openxmlformats.org/officeDocument/2006/relationships/image" Target="../media/image56.jpeg"/><Relationship Id="rId21" Type="http://schemas.openxmlformats.org/officeDocument/2006/relationships/image" Target="../media/image57.jpeg"/><Relationship Id="rId22" Type="http://schemas.openxmlformats.org/officeDocument/2006/relationships/image" Target="../media/image58.jpeg"/><Relationship Id="rId23" Type="http://schemas.openxmlformats.org/officeDocument/2006/relationships/image" Target="../media/image59.jpeg"/><Relationship Id="rId24" Type="http://schemas.openxmlformats.org/officeDocument/2006/relationships/image" Target="../media/image60.jpeg"/><Relationship Id="rId25" Type="http://schemas.openxmlformats.org/officeDocument/2006/relationships/audio" Target="../media/chimes.wav"/><Relationship Id="rId2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daplus.info/produce/dried_apricots.html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edaplus.info/produce/french_plum.html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edaplus.info/produce/raisins.html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edaplus.info/produce/bean.html" TargetMode="External"/><Relationship Id="rId8" Type="http://schemas.openxmlformats.org/officeDocument/2006/relationships/image" Target="../media/image8.jpeg"/><Relationship Id="rId9" Type="http://schemas.openxmlformats.org/officeDocument/2006/relationships/hyperlink" Target="http://edaplus.info/produce/pea.html" TargetMode="External"/><Relationship Id="rId10" Type="http://schemas.openxmlformats.org/officeDocument/2006/relationships/image" Target="../media/image9.jpeg"/><Relationship Id="rId11" Type="http://schemas.openxmlformats.org/officeDocument/2006/relationships/hyperlink" Target="http://edaplus.info/produce/almond.html" TargetMode="External"/><Relationship Id="rId12" Type="http://schemas.openxmlformats.org/officeDocument/2006/relationships/image" Target="../media/image10.jpeg"/><Relationship Id="rId13" Type="http://schemas.openxmlformats.org/officeDocument/2006/relationships/hyperlink" Target="http://edaplus.info/produce/filbert.html" TargetMode="External"/><Relationship Id="rId14" Type="http://schemas.openxmlformats.org/officeDocument/2006/relationships/image" Target="../media/image11.jpeg"/><Relationship Id="rId15" Type="http://schemas.openxmlformats.org/officeDocument/2006/relationships/hyperlink" Target="http://edaplus.info/produce/pine_nut.html" TargetMode="External"/><Relationship Id="rId16" Type="http://schemas.openxmlformats.org/officeDocument/2006/relationships/image" Target="../media/image12.jpeg"/><Relationship Id="rId17" Type="http://schemas.openxmlformats.org/officeDocument/2006/relationships/hyperlink" Target="http://edaplus.info/produce/potato.html" TargetMode="External"/><Relationship Id="rId18" Type="http://schemas.openxmlformats.org/officeDocument/2006/relationships/image" Target="../media/image13.jpeg"/><Relationship Id="rId19" Type="http://schemas.openxmlformats.org/officeDocument/2006/relationships/hyperlink" Target="http://edaplus.info/produce/peanut.html" TargetMode="External"/><Relationship Id="rId20" Type="http://schemas.openxmlformats.org/officeDocument/2006/relationships/image" Target="../media/image14.jpeg"/><Relationship Id="rId21" Type="http://schemas.openxmlformats.org/officeDocument/2006/relationships/hyperlink" Target="http://edaplus.info/produce/laminaria.html" TargetMode="External"/><Relationship Id="rId22" Type="http://schemas.openxmlformats.org/officeDocument/2006/relationships/image" Target="../media/image15.jpeg"/><Relationship Id="rId23" Type="http://schemas.openxmlformats.org/officeDocument/2006/relationships/hyperlink" Target="http://edaplus.info/produce/mustard.html" TargetMode="External"/><Relationship Id="rId24" Type="http://schemas.openxmlformats.org/officeDocument/2006/relationships/image" Target="../media/image16.jpeg"/><Relationship Id="rId25" Type="http://schemas.openxmlformats.org/officeDocument/2006/relationships/hyperlink" Target="http://edaplus.info/produce/lentil.html" TargetMode="External"/><Relationship Id="rId26" Type="http://schemas.openxmlformats.org/officeDocument/2006/relationships/image" Target="../media/image17.jpeg"/><Relationship Id="rId27" Type="http://schemas.openxmlformats.org/officeDocument/2006/relationships/hyperlink" Target="http://edaplus.info/produce/cashew.html" TargetMode="External"/><Relationship Id="rId28" Type="http://schemas.openxmlformats.org/officeDocument/2006/relationships/image" Target="../media/image18.jpeg"/><Relationship Id="rId29" Type="http://schemas.openxmlformats.org/officeDocument/2006/relationships/hyperlink" Target="http://edaplus.info/produce/walnut.html" TargetMode="External"/><Relationship Id="rId30" Type="http://schemas.openxmlformats.org/officeDocument/2006/relationships/image" Target="../media/image19.jpeg"/><Relationship Id="rId31" Type="http://schemas.openxmlformats.org/officeDocument/2006/relationships/audio" Target="../media/chimes.wav"/><Relationship Id="rId3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daplus.info/produce/turkey.html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edaplus.info/produce/beef.html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edaplus.info/produce/pork.html" TargetMode="External"/><Relationship Id="rId6" Type="http://schemas.openxmlformats.org/officeDocument/2006/relationships/image" Target="../media/image22.jpeg"/><Relationship Id="rId7" Type="http://schemas.openxmlformats.org/officeDocument/2006/relationships/hyperlink" Target="http://edaplus.info/produce/mutton.html" TargetMode="External"/><Relationship Id="rId8" Type="http://schemas.openxmlformats.org/officeDocument/2006/relationships/image" Target="../media/image23.jpeg"/><Relationship Id="rId9" Type="http://schemas.openxmlformats.org/officeDocument/2006/relationships/hyperlink" Target="http://edaplus.info/produce/liver.html" TargetMode="External"/><Relationship Id="rId10" Type="http://schemas.openxmlformats.org/officeDocument/2006/relationships/image" Target="../media/image24.jpeg"/><Relationship Id="rId11" Type="http://schemas.openxmlformats.org/officeDocument/2006/relationships/hyperlink" Target="http://edaplus.info/produce/rabbit.html" TargetMode="External"/><Relationship Id="rId12" Type="http://schemas.openxmlformats.org/officeDocument/2006/relationships/image" Target="../media/image25.jpeg"/><Relationship Id="rId13" Type="http://schemas.openxmlformats.org/officeDocument/2006/relationships/hyperlink" Target="http://edaplus.info/produce/pike.html" TargetMode="External"/><Relationship Id="rId14" Type="http://schemas.openxmlformats.org/officeDocument/2006/relationships/image" Target="../media/image26.jpeg"/><Relationship Id="rId15" Type="http://schemas.openxmlformats.org/officeDocument/2006/relationships/hyperlink" Target="http://edaplus.info/produce/grouper.html" TargetMode="External"/><Relationship Id="rId16" Type="http://schemas.openxmlformats.org/officeDocument/2006/relationships/image" Target="../media/image27.jpeg"/><Relationship Id="rId17" Type="http://schemas.openxmlformats.org/officeDocument/2006/relationships/hyperlink" Target="http://edaplus.info/produce/sardine.html" TargetMode="External"/><Relationship Id="rId18" Type="http://schemas.openxmlformats.org/officeDocument/2006/relationships/image" Target="../media/image28.jpeg"/><Relationship Id="rId19" Type="http://schemas.openxmlformats.org/officeDocument/2006/relationships/hyperlink" Target="http://edaplus.info/produce/humpback_salmon.html" TargetMode="External"/><Relationship Id="rId20" Type="http://schemas.openxmlformats.org/officeDocument/2006/relationships/image" Target="../media/image29.jpeg"/><Relationship Id="rId21" Type="http://schemas.openxmlformats.org/officeDocument/2006/relationships/hyperlink" Target="http://edaplus.info/produce/pea.html" TargetMode="External"/><Relationship Id="rId22" Type="http://schemas.openxmlformats.org/officeDocument/2006/relationships/image" Target="../media/image9.jpeg"/><Relationship Id="rId23" Type="http://schemas.openxmlformats.org/officeDocument/2006/relationships/hyperlink" Target="http://edaplus.info/produce/flounder.html" TargetMode="External"/><Relationship Id="rId24" Type="http://schemas.openxmlformats.org/officeDocument/2006/relationships/image" Target="../media/image30.jpeg"/><Relationship Id="rId25" Type="http://schemas.openxmlformats.org/officeDocument/2006/relationships/hyperlink" Target="http://edaplus.info/produce/lancet_fish.html" TargetMode="External"/><Relationship Id="rId26" Type="http://schemas.openxmlformats.org/officeDocument/2006/relationships/image" Target="../media/image31.jpeg"/><Relationship Id="rId27" Type="http://schemas.openxmlformats.org/officeDocument/2006/relationships/hyperlink" Target="http://edaplus.info/produce/chicken.html" TargetMode="External"/><Relationship Id="rId28" Type="http://schemas.openxmlformats.org/officeDocument/2006/relationships/image" Target="../media/image32.jpeg"/><Relationship Id="rId29" Type="http://schemas.openxmlformats.org/officeDocument/2006/relationships/hyperlink" Target="http://edaplus.info/produce/egg.html" TargetMode="External"/><Relationship Id="rId30" Type="http://schemas.openxmlformats.org/officeDocument/2006/relationships/image" Target="../media/image33.jpeg"/><Relationship Id="rId31" Type="http://schemas.openxmlformats.org/officeDocument/2006/relationships/audio" Target="../media/chimes.wav"/><Relationship Id="rId3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daplus.info/produce/liver.html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edaplus.info/produce/pine_nut.html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edaplus.info/produce/camembert.html" TargetMode="External"/><Relationship Id="rId6" Type="http://schemas.openxmlformats.org/officeDocument/2006/relationships/image" Target="../media/image34.jpeg"/><Relationship Id="rId7" Type="http://schemas.openxmlformats.org/officeDocument/2006/relationships/hyperlink" Target="http://edaplus.info/produce/peanut.html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edaplus.info/produce/beef.html" TargetMode="External"/><Relationship Id="rId10" Type="http://schemas.openxmlformats.org/officeDocument/2006/relationships/image" Target="../media/image21.jpeg"/><Relationship Id="rId11" Type="http://schemas.openxmlformats.org/officeDocument/2006/relationships/hyperlink" Target="http://edaplus.info/produce/bean.html" TargetMode="External"/><Relationship Id="rId12" Type="http://schemas.openxmlformats.org/officeDocument/2006/relationships/image" Target="../media/image8.jpeg"/><Relationship Id="rId13" Type="http://schemas.openxmlformats.org/officeDocument/2006/relationships/hyperlink" Target="http://edaplus.info/produce/pea.html" TargetMode="External"/><Relationship Id="rId14" Type="http://schemas.openxmlformats.org/officeDocument/2006/relationships/image" Target="../media/image9.jpeg"/><Relationship Id="rId15" Type="http://schemas.openxmlformats.org/officeDocument/2006/relationships/hyperlink" Target="http://edaplus.info/produce/mutton.html" TargetMode="External"/><Relationship Id="rId16" Type="http://schemas.openxmlformats.org/officeDocument/2006/relationships/image" Target="../media/image23.jpeg"/><Relationship Id="rId17" Type="http://schemas.openxmlformats.org/officeDocument/2006/relationships/hyperlink" Target="http://edaplus.info/produce/pork.html" TargetMode="External"/><Relationship Id="rId18" Type="http://schemas.openxmlformats.org/officeDocument/2006/relationships/image" Target="../media/image22.jpeg"/><Relationship Id="rId19" Type="http://schemas.openxmlformats.org/officeDocument/2006/relationships/hyperlink" Target="http://edaplus.info/produce/wheat.html" TargetMode="External"/><Relationship Id="rId20" Type="http://schemas.openxmlformats.org/officeDocument/2006/relationships/image" Target="../media/image35.jpeg"/><Relationship Id="rId21" Type="http://schemas.openxmlformats.org/officeDocument/2006/relationships/hyperlink" Target="http://edaplus.info/produce/buckwheat.html" TargetMode="External"/><Relationship Id="rId22" Type="http://schemas.openxmlformats.org/officeDocument/2006/relationships/image" Target="../media/image36.jpeg"/><Relationship Id="rId23" Type="http://schemas.openxmlformats.org/officeDocument/2006/relationships/hyperlink" Target="http://edaplus.info/produce/barley.html" TargetMode="External"/><Relationship Id="rId24" Type="http://schemas.openxmlformats.org/officeDocument/2006/relationships/image" Target="../media/image37.jpeg"/><Relationship Id="rId25" Type="http://schemas.openxmlformats.org/officeDocument/2006/relationships/hyperlink" Target="http://edaplus.info/produce/oatmeal.html" TargetMode="External"/><Relationship Id="rId26" Type="http://schemas.openxmlformats.org/officeDocument/2006/relationships/image" Target="../media/image38.jpeg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daplus.info/produce/pistachios.html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edaplus.info/produce/liver.html" TargetMode="External"/><Relationship Id="rId4" Type="http://schemas.openxmlformats.org/officeDocument/2006/relationships/image" Target="../media/image24.jpeg"/><Relationship Id="rId5" Type="http://schemas.openxmlformats.org/officeDocument/2006/relationships/hyperlink" Target="http://edaplus.info/produce/spinach.html" TargetMode="External"/><Relationship Id="rId6" Type="http://schemas.openxmlformats.org/officeDocument/2006/relationships/image" Target="../media/image40.jpeg"/><Relationship Id="rId7" Type="http://schemas.openxmlformats.org/officeDocument/2006/relationships/hyperlink" Target="http://edaplus.info/produce/lentil.html" TargetMode="External"/><Relationship Id="rId8" Type="http://schemas.openxmlformats.org/officeDocument/2006/relationships/image" Target="../media/image17.jpeg"/><Relationship Id="rId9" Type="http://schemas.openxmlformats.org/officeDocument/2006/relationships/hyperlink" Target="http://edaplus.info/produce/pea.html" TargetMode="External"/><Relationship Id="rId10" Type="http://schemas.openxmlformats.org/officeDocument/2006/relationships/image" Target="../media/image9.jpeg"/><Relationship Id="rId11" Type="http://schemas.openxmlformats.org/officeDocument/2006/relationships/hyperlink" Target="http://edaplus.info/produce/buckwheat.html" TargetMode="External"/><Relationship Id="rId12" Type="http://schemas.openxmlformats.org/officeDocument/2006/relationships/image" Target="../media/image36.jpeg"/><Relationship Id="rId13" Type="http://schemas.openxmlformats.org/officeDocument/2006/relationships/hyperlink" Target="http://edaplus.info/produce/pigeon.html" TargetMode="External"/><Relationship Id="rId14" Type="http://schemas.openxmlformats.org/officeDocument/2006/relationships/image" Target="../media/image41.jpeg"/><Relationship Id="rId15" Type="http://schemas.openxmlformats.org/officeDocument/2006/relationships/hyperlink" Target="http://edaplus.info/produce/barley.html" TargetMode="External"/><Relationship Id="rId16" Type="http://schemas.openxmlformats.org/officeDocument/2006/relationships/image" Target="../media/image37.jpeg"/><Relationship Id="rId17" Type="http://schemas.openxmlformats.org/officeDocument/2006/relationships/hyperlink" Target="http://edaplus.info/produce/oatmeal.html" TargetMode="External"/><Relationship Id="rId18" Type="http://schemas.openxmlformats.org/officeDocument/2006/relationships/image" Target="../media/image38.jpeg"/><Relationship Id="rId19" Type="http://schemas.openxmlformats.org/officeDocument/2006/relationships/hyperlink" Target="http://edaplus.info/produce/wheat.html" TargetMode="External"/><Relationship Id="rId20" Type="http://schemas.openxmlformats.org/officeDocument/2006/relationships/image" Target="../media/image35.jpeg"/><Relationship Id="rId21" Type="http://schemas.openxmlformats.org/officeDocument/2006/relationships/hyperlink" Target="http://edaplus.info/produce/peanut.html" TargetMode="External"/><Relationship Id="rId22" Type="http://schemas.openxmlformats.org/officeDocument/2006/relationships/image" Target="../media/image14.jpeg"/><Relationship Id="rId23" Type="http://schemas.openxmlformats.org/officeDocument/2006/relationships/hyperlink" Target="http://edaplus.info/produce/cornel.html" TargetMode="External"/><Relationship Id="rId24" Type="http://schemas.openxmlformats.org/officeDocument/2006/relationships/image" Target="../media/image42.jpeg"/><Relationship Id="rId25" Type="http://schemas.openxmlformats.org/officeDocument/2006/relationships/hyperlink" Target="http://edaplus.info/produce/cashew.html" TargetMode="External"/><Relationship Id="rId26" Type="http://schemas.openxmlformats.org/officeDocument/2006/relationships/image" Target="../media/image18.jpeg"/><Relationship Id="rId27" Type="http://schemas.openxmlformats.org/officeDocument/2006/relationships/hyperlink" Target="http://edaplus.info/produce/maize.html" TargetMode="External"/><Relationship Id="rId28" Type="http://schemas.openxmlformats.org/officeDocument/2006/relationships/image" Target="../media/image43.jpeg"/><Relationship Id="rId29" Type="http://schemas.openxmlformats.org/officeDocument/2006/relationships/hyperlink" Target="http://edaplus.info/produce/pine_nut.html" TargetMode="External"/><Relationship Id="rId30" Type="http://schemas.openxmlformats.org/officeDocument/2006/relationships/image" Target="../media/image12.jpeg"/><Relationship Id="rId31" Type="http://schemas.openxmlformats.org/officeDocument/2006/relationships/audio" Target="../media/chimes.wav"/><Relationship Id="rId3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daplus.info/produce/wheat.html" TargetMode="External"/><Relationship Id="rId2" Type="http://schemas.openxmlformats.org/officeDocument/2006/relationships/image" Target="../media/image35.jpeg"/><Relationship Id="rId3" Type="http://schemas.openxmlformats.org/officeDocument/2006/relationships/hyperlink" Target="http://edaplus.info/produce/barley.html" TargetMode="External"/><Relationship Id="rId4" Type="http://schemas.openxmlformats.org/officeDocument/2006/relationships/image" Target="../media/image37.jpeg"/><Relationship Id="rId5" Type="http://schemas.openxmlformats.org/officeDocument/2006/relationships/hyperlink" Target="http://edaplus.info/produce/bean_sprouts.html" TargetMode="External"/><Relationship Id="rId6" Type="http://schemas.openxmlformats.org/officeDocument/2006/relationships/image" Target="../media/image44.jpeg"/><Relationship Id="rId7" Type="http://schemas.openxmlformats.org/officeDocument/2006/relationships/hyperlink" Target="http://edaplus.info/produce/bean.html" TargetMode="External"/><Relationship Id="rId8" Type="http://schemas.openxmlformats.org/officeDocument/2006/relationships/image" Target="../media/image8.jpeg"/><Relationship Id="rId9" Type="http://schemas.openxmlformats.org/officeDocument/2006/relationships/hyperlink" Target="http://edaplus.info/produce/peanut.html" TargetMode="External"/><Relationship Id="rId10" Type="http://schemas.openxmlformats.org/officeDocument/2006/relationships/image" Target="../media/image14.jpeg"/><Relationship Id="rId11" Type="http://schemas.openxmlformats.org/officeDocument/2006/relationships/hyperlink" Target="http://edaplus.info/produce/almond.html" TargetMode="External"/><Relationship Id="rId12" Type="http://schemas.openxmlformats.org/officeDocument/2006/relationships/image" Target="../media/image10.jpeg"/><Relationship Id="rId13" Type="http://schemas.openxmlformats.org/officeDocument/2006/relationships/hyperlink" Target="http://edaplus.info/produce/filbert.html" TargetMode="External"/><Relationship Id="rId14" Type="http://schemas.openxmlformats.org/officeDocument/2006/relationships/image" Target="../media/image11.jpeg"/><Relationship Id="rId15" Type="http://schemas.openxmlformats.org/officeDocument/2006/relationships/hyperlink" Target="http://edaplus.info/produce/noodles.html" TargetMode="External"/><Relationship Id="rId16" Type="http://schemas.openxmlformats.org/officeDocument/2006/relationships/image" Target="../media/image45.jpeg"/><Relationship Id="rId17" Type="http://schemas.openxmlformats.org/officeDocument/2006/relationships/image" Target="../media/image46.jpeg"/><Relationship Id="rId18" Type="http://schemas.openxmlformats.org/officeDocument/2006/relationships/hyperlink" Target="http://edaplus.info/directory-fish.html" TargetMode="External"/><Relationship Id="rId19" Type="http://schemas.openxmlformats.org/officeDocument/2006/relationships/image" Target="../media/image47.jpeg"/><Relationship Id="rId20" Type="http://schemas.openxmlformats.org/officeDocument/2006/relationships/audio" Target="../media/chimes.wav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Garamond"/>
              </a:rPr>
              <a:t>«Волшебный»</a:t>
            </a:r>
            <a:r>
              <a:rPr b="0" lang="ru-RU" sz="6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Garamond"/>
              </a:rPr>
              <a:t>витамин,</a:t>
            </a:r>
            <a:endParaRPr b="0" lang="en-US" sz="66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14200" y="1500120"/>
            <a:ext cx="8715600" cy="18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имические  элементы  в  живой  клетке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Подзаголовок 14"/>
          <p:cNvSpPr/>
          <p:nvPr/>
        </p:nvSpPr>
        <p:spPr>
          <a:xfrm>
            <a:off x="214200" y="4357800"/>
            <a:ext cx="8715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: систематизировать знания о биоэлементах,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ть «волшебный» витамин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324640" cy="7858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66ccff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Arial"/>
              </a:rPr>
              <a:t>Фтор</a:t>
            </a:r>
            <a:endParaRPr b="0" lang="en-US" sz="60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-447840" algn="just">
              <a:spcBef>
                <a:spcPts val="499"/>
              </a:spcBef>
              <a:buClr>
                <a:srgbClr val="6600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Отвечает за созревание и отвердевание зубной эмали, помогает бороться с кариесом и пародонтозом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Участвует в росте скелета, заживлении костной ткани при переломах, предупреждает остеопороз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Стимулирует кроветворение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Снижает накопление радионуклида стронция в костях, уменьшает тяжесть лучевого поражения от этого радионуклида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2. Суточная потребность: 1,5 – 2,0 мг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3. Продукты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                 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6" name="Рисунок 13" descr="Скумбр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85960" y="4429080"/>
            <a:ext cx="1571760" cy="50004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14" descr="Тунецна белом фон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00280" y="43578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15" descr="Хекна белом фоне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72040" y="4071960"/>
            <a:ext cx="990720" cy="83340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16" descr="Минтайна белом фоне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215040" y="4357800"/>
            <a:ext cx="1300320" cy="56196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17" descr="Трескана белом фоне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643880" y="4429080"/>
            <a:ext cx="1342800" cy="52884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8" descr="Пикшана белом фоне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928800" y="5143680"/>
            <a:ext cx="1285920" cy="64260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9" descr="Мойвана белом фоне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709720" y="5072040"/>
            <a:ext cx="1148040" cy="7142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20" descr="Горбушана белом фоне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334040" y="5000760"/>
            <a:ext cx="1095120" cy="77148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21" descr="Ершна белом фоне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929200" y="5072040"/>
            <a:ext cx="1214640" cy="71424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22" descr="Камбалана белом фоне"/>
          <p:cNvPicPr/>
          <p:nvPr/>
        </p:nvPicPr>
        <p:blipFill>
          <a:blip r:embed="rId19"/>
          <a:stretch/>
        </p:blipFill>
        <p:spPr>
          <a:xfrm>
            <a:off x="142920" y="5867280"/>
            <a:ext cx="1233360" cy="77652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23" descr="Карасьна белом фоне"/>
          <p:cNvPicPr/>
          <p:nvPr/>
        </p:nvPicPr>
        <p:blipFill>
          <a:blip r:embed="rId20"/>
          <a:stretch/>
        </p:blipFill>
        <p:spPr>
          <a:xfrm>
            <a:off x="1500120" y="5862600"/>
            <a:ext cx="1324080" cy="78120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24" descr="Кетана белом фоне"/>
          <p:cNvPicPr/>
          <p:nvPr/>
        </p:nvPicPr>
        <p:blipFill>
          <a:blip r:embed="rId21"/>
          <a:stretch/>
        </p:blipFill>
        <p:spPr>
          <a:xfrm>
            <a:off x="2928960" y="5924520"/>
            <a:ext cx="1376280" cy="71928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25" descr="Кефальна белом фоне"/>
          <p:cNvPicPr/>
          <p:nvPr/>
        </p:nvPicPr>
        <p:blipFill>
          <a:blip r:embed="rId22"/>
          <a:stretch/>
        </p:blipFill>
        <p:spPr>
          <a:xfrm>
            <a:off x="4500720" y="5929200"/>
            <a:ext cx="1481040" cy="69552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26" descr="Корюшкана белом фоне"/>
          <p:cNvPicPr/>
          <p:nvPr/>
        </p:nvPicPr>
        <p:blipFill>
          <a:blip r:embed="rId23"/>
          <a:stretch/>
        </p:blipFill>
        <p:spPr>
          <a:xfrm>
            <a:off x="6143760" y="5929200"/>
            <a:ext cx="1366560" cy="71460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27" descr="Устрицана белом фоне"/>
          <p:cNvPicPr/>
          <p:nvPr/>
        </p:nvPicPr>
        <p:blipFill>
          <a:blip r:embed="rId24"/>
          <a:stretch/>
        </p:blipFill>
        <p:spPr>
          <a:xfrm>
            <a:off x="7677000" y="5286240"/>
            <a:ext cx="1324080" cy="1343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5" name="chimes.wav"/>
      </p:stSnd>
    </p:sndAc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324640" cy="58572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Garamond"/>
              </a:rPr>
              <a:t>Рефлексия</a:t>
            </a:r>
            <a:endParaRPr b="0" lang="en-US" sz="36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Arial"/>
              </a:rPr>
              <a:t>Продолжи фразы:</a:t>
            </a:r>
            <a:r>
              <a:rPr b="1" lang="ru-RU" sz="32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У ВАС БУДЕТ ЧИСТАЯ И ЗДОРОВАЯ КОЖА, если…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У ВАС БУДУТ ШЕЛКОВИСТЫЕ ВОЛОСЫ, если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ВЫ БУДЕТЕ ПОРАЖАТЬ ВСЕХ СВОЕЙ ОСВЕДОМЛЕННОСТЬЮ И ИЗУМИТЕЛЬНОЙ ПАМЯТЬЮ, если 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ВАШЕ СЕРДЦЕ БУДЕТ ВЕЧНЫМ ДВИГАТЕЛЕМ, если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У ВАС БУДЕТ НОРМАЛЬНОЕ КРОВЯНОЕ ДАВЛЕНИЕ, если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У ВАС БУДЕТ ПРЕКРАСНОЕ САМОЧУВСТВИЕ, если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У ВАС БУДЕТ ЖИЗНЕРАДОСТНОЕ НАСТРОЕНИЕ, если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У ВАС БУДЕТ ЗДОРОВОЕ И СВЕЖЕЕ ДЫХАНИЕ, если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У ВАС БУДЕТ СБАЛАНСИРОВАННЫЙ ОБМЕН ВЕЩЕСТВ, если …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ВАМ  НЕ  ГРОЗИТ  ХУДОБА  И  ЛИШНИЕ  КИЛОГРАММЫ, если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6" descr="витамины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 rot="20251200">
            <a:off x="-1366560" y="2611080"/>
            <a:ext cx="118501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660066"/>
                </a:solidFill>
                <a:latin typeface="Monotype Corsiva"/>
              </a:rPr>
              <a:t>Спасибо за внимание</a:t>
            </a:r>
            <a:endParaRPr b="0" lang="en-US" sz="8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7" name="Picture 17" descr="колбы"/>
          <p:cNvPicPr/>
          <p:nvPr/>
        </p:nvPicPr>
        <p:blipFill>
          <a:blip r:embed="rId2"/>
          <a:stretch/>
        </p:blipFill>
        <p:spPr>
          <a:xfrm>
            <a:off x="8096400" y="0"/>
            <a:ext cx="1047600" cy="12668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" name="chimes.wav"/>
      </p:stSnd>
    </p:sndAc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0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752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3" dur="50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52,-103)"/>
                                      </p:to>
                                    </p:set>
                                    <p:set>
                                      <p:cBhvr>
                                        <p:cTn id="754" dur="50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52,-103)"/>
                                      </p:to>
                                    </p:set>
                                    <p:set>
                                      <p:cBhvr>
                                        <p:cTn id="755" dur="50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757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58" dur="50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759" dur="50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760" dur="50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762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63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Клетка 4"/>
          <p:cNvPicPr/>
          <p:nvPr/>
        </p:nvPicPr>
        <p:blipFill>
          <a:blip r:embed="rId1"/>
          <a:stretch/>
        </p:blipFill>
        <p:spPr>
          <a:xfrm>
            <a:off x="2357280" y="2928960"/>
            <a:ext cx="4861080" cy="3381480"/>
          </a:xfrm>
          <a:prstGeom prst="rect">
            <a:avLst/>
          </a:prstGeom>
          <a:ln w="0">
            <a:noFill/>
          </a:ln>
        </p:spPr>
      </p:pic>
      <p:sp>
        <p:nvSpPr>
          <p:cNvPr id="96" name="Скругленный прямоугольник 3"/>
          <p:cNvSpPr/>
          <p:nvPr/>
        </p:nvSpPr>
        <p:spPr>
          <a:xfrm>
            <a:off x="357120" y="2071800"/>
            <a:ext cx="3500640" cy="1214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30073"/>
                </a:solidFill>
                <a:latin typeface="Arial"/>
              </a:rPr>
              <a:t>Макроэлементы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Скругленный прямоугольник 6"/>
          <p:cNvSpPr/>
          <p:nvPr/>
        </p:nvSpPr>
        <p:spPr>
          <a:xfrm>
            <a:off x="5357880" y="2071800"/>
            <a:ext cx="3500280" cy="1214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30073"/>
                </a:solidFill>
                <a:latin typeface="Arial"/>
              </a:rPr>
              <a:t>Микроэлементы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0040" y="128160"/>
            <a:ext cx="8325000" cy="80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Garamond"/>
              </a:rPr>
              <a:t>По содержанию в живых клетках </a:t>
            </a: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99" name="Скругленный прямоугольник 11"/>
          <p:cNvSpPr/>
          <p:nvPr/>
        </p:nvSpPr>
        <p:spPr>
          <a:xfrm>
            <a:off x="71280" y="3500280"/>
            <a:ext cx="2286000" cy="5716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30073"/>
                </a:solidFill>
                <a:latin typeface="Arial"/>
              </a:rPr>
              <a:t>В сумме 98%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Скругленный прямоугольник 13"/>
          <p:cNvSpPr/>
          <p:nvPr/>
        </p:nvSpPr>
        <p:spPr>
          <a:xfrm>
            <a:off x="1071720" y="1071720"/>
            <a:ext cx="7358040" cy="642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30073"/>
                </a:solidFill>
                <a:latin typeface="Arial"/>
              </a:rPr>
              <a:t>Химические элементы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Скругленный прямоугольник 15"/>
          <p:cNvSpPr/>
          <p:nvPr/>
        </p:nvSpPr>
        <p:spPr>
          <a:xfrm>
            <a:off x="214200" y="4857840"/>
            <a:ext cx="171468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30073"/>
                </a:solidFill>
                <a:latin typeface="Arial"/>
              </a:rPr>
              <a:t>С – 20,7 %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Скругленный прямоугольник 16"/>
          <p:cNvSpPr/>
          <p:nvPr/>
        </p:nvSpPr>
        <p:spPr>
          <a:xfrm>
            <a:off x="214200" y="5500800"/>
            <a:ext cx="171468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30073"/>
                </a:solidFill>
                <a:latin typeface="Arial"/>
              </a:rPr>
              <a:t>Н – 9,9 %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Скругленный прямоугольник 17"/>
          <p:cNvSpPr/>
          <p:nvPr/>
        </p:nvSpPr>
        <p:spPr>
          <a:xfrm>
            <a:off x="214200" y="6215040"/>
            <a:ext cx="171468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N – </a:t>
            </a:r>
            <a:r>
              <a:rPr b="1" lang="ru-RU" sz="2000" spc="-1" strike="noStrike">
                <a:solidFill>
                  <a:srgbClr val="730073"/>
                </a:solidFill>
                <a:latin typeface="Arial"/>
              </a:rPr>
              <a:t>5,0 %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Скругленный прямоугольник 20"/>
          <p:cNvSpPr/>
          <p:nvPr/>
        </p:nvSpPr>
        <p:spPr>
          <a:xfrm>
            <a:off x="214200" y="4143240"/>
            <a:ext cx="171468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30073"/>
                </a:solidFill>
                <a:latin typeface="Arial"/>
              </a:rPr>
              <a:t>О – 62,4 %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Скругленный прямоугольник 21"/>
          <p:cNvSpPr/>
          <p:nvPr/>
        </p:nvSpPr>
        <p:spPr>
          <a:xfrm>
            <a:off x="2571840" y="414324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Скругленный прямоугольник 22"/>
          <p:cNvSpPr/>
          <p:nvPr/>
        </p:nvSpPr>
        <p:spPr>
          <a:xfrm>
            <a:off x="5929200" y="414324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Скругленный прямоугольник 23"/>
          <p:cNvSpPr/>
          <p:nvPr/>
        </p:nvSpPr>
        <p:spPr>
          <a:xfrm>
            <a:off x="7715160" y="486720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C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Скругленный прямоугольник 24"/>
          <p:cNvSpPr/>
          <p:nvPr/>
        </p:nvSpPr>
        <p:spPr>
          <a:xfrm>
            <a:off x="7715160" y="415296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M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Скругленный прямоугольник 25"/>
          <p:cNvSpPr/>
          <p:nvPr/>
        </p:nvSpPr>
        <p:spPr>
          <a:xfrm>
            <a:off x="8501040" y="486720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B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Скругленный прямоугольник 26"/>
          <p:cNvSpPr/>
          <p:nvPr/>
        </p:nvSpPr>
        <p:spPr>
          <a:xfrm>
            <a:off x="8501040" y="415296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Скругленный прямоугольник 27"/>
          <p:cNvSpPr/>
          <p:nvPr/>
        </p:nvSpPr>
        <p:spPr>
          <a:xfrm>
            <a:off x="6858000" y="485784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Z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Скругленный прямоугольник 28"/>
          <p:cNvSpPr/>
          <p:nvPr/>
        </p:nvSpPr>
        <p:spPr>
          <a:xfrm>
            <a:off x="6858000" y="414324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F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Скругленный прямоугольник 29"/>
          <p:cNvSpPr/>
          <p:nvPr/>
        </p:nvSpPr>
        <p:spPr>
          <a:xfrm>
            <a:off x="5929200" y="485784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C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Скругленный прямоугольник 30"/>
          <p:cNvSpPr/>
          <p:nvPr/>
        </p:nvSpPr>
        <p:spPr>
          <a:xfrm>
            <a:off x="8001000" y="558180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Скругленный прямоугольник 32"/>
          <p:cNvSpPr/>
          <p:nvPr/>
        </p:nvSpPr>
        <p:spPr>
          <a:xfrm>
            <a:off x="2786040" y="564372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Скругленный прямоугольник 33"/>
          <p:cNvSpPr/>
          <p:nvPr/>
        </p:nvSpPr>
        <p:spPr>
          <a:xfrm>
            <a:off x="4286160" y="414324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N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Скругленный прямоугольник 34"/>
          <p:cNvSpPr/>
          <p:nvPr/>
        </p:nvSpPr>
        <p:spPr>
          <a:xfrm>
            <a:off x="3429000" y="414324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30073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Скругленный прямоугольник 35"/>
          <p:cNvSpPr/>
          <p:nvPr/>
        </p:nvSpPr>
        <p:spPr>
          <a:xfrm>
            <a:off x="2786040" y="492912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C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Скругленный прямоугольник 36"/>
          <p:cNvSpPr/>
          <p:nvPr/>
        </p:nvSpPr>
        <p:spPr>
          <a:xfrm>
            <a:off x="3929040" y="492912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Скругленный прямоугольник 37"/>
          <p:cNvSpPr/>
          <p:nvPr/>
        </p:nvSpPr>
        <p:spPr>
          <a:xfrm>
            <a:off x="3929040" y="565308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C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Скругленный прямоугольник 38"/>
          <p:cNvSpPr/>
          <p:nvPr/>
        </p:nvSpPr>
        <p:spPr>
          <a:xfrm>
            <a:off x="6572160" y="557208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A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Скругленный прямоугольник 39"/>
          <p:cNvSpPr/>
          <p:nvPr/>
        </p:nvSpPr>
        <p:spPr>
          <a:xfrm>
            <a:off x="2500200" y="3500280"/>
            <a:ext cx="2286000" cy="5716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30073"/>
                </a:solidFill>
                <a:latin typeface="Arial"/>
              </a:rPr>
              <a:t>В сумме 1,9%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Скругленный прямоугольник 40"/>
          <p:cNvSpPr/>
          <p:nvPr/>
        </p:nvSpPr>
        <p:spPr>
          <a:xfrm>
            <a:off x="6215040" y="3500280"/>
            <a:ext cx="2286000" cy="5716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30073"/>
                </a:solidFill>
                <a:latin typeface="Arial"/>
              </a:rPr>
              <a:t>В сумме 0,1%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Стрелка вниз 31"/>
          <p:cNvSpPr/>
          <p:nvPr/>
        </p:nvSpPr>
        <p:spPr>
          <a:xfrm>
            <a:off x="2571840" y="1714680"/>
            <a:ext cx="260280" cy="35712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Стрелка вниз 41"/>
          <p:cNvSpPr/>
          <p:nvPr/>
        </p:nvSpPr>
        <p:spPr>
          <a:xfrm>
            <a:off x="6215040" y="1714680"/>
            <a:ext cx="260280" cy="35712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Стрелка вниз 42"/>
          <p:cNvSpPr/>
          <p:nvPr/>
        </p:nvSpPr>
        <p:spPr>
          <a:xfrm>
            <a:off x="928800" y="3214800"/>
            <a:ext cx="260280" cy="35712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Стрелка вниз 43"/>
          <p:cNvSpPr/>
          <p:nvPr/>
        </p:nvSpPr>
        <p:spPr>
          <a:xfrm>
            <a:off x="3071880" y="3214800"/>
            <a:ext cx="260280" cy="35712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Стрелка вниз 44"/>
          <p:cNvSpPr/>
          <p:nvPr/>
        </p:nvSpPr>
        <p:spPr>
          <a:xfrm>
            <a:off x="7286760" y="3214800"/>
            <a:ext cx="260280" cy="35712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pic>
        <p:nvPicPr>
          <p:cNvPr id="130" name="Picture 2" descr="C:\Users\SuperGrandMa\Desktop\ВОЛШЕБНЫЙ ВИТАМИН\ХИМИЧЕСКИЕ ЭЛЕМЕНТЫ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14200" y="1790640"/>
            <a:ext cx="8701200" cy="4734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99ff">
                <a:alpha val="50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2" name="ding2675.wav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213840" y="266400"/>
            <a:ext cx="892980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Garamond"/>
              </a:rPr>
              <a:t>План характеристики элемента</a:t>
            </a:r>
            <a:endParaRPr b="0" lang="en-US" sz="48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34" name="Содержимое 2"/>
          <p:cNvSpPr/>
          <p:nvPr/>
        </p:nvSpPr>
        <p:spPr>
          <a:xfrm>
            <a:off x="214200" y="1790640"/>
            <a:ext cx="892980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чение в организме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точная норма потребления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продуктах содержится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ияние дефицита и избытка элемента на здоровье человека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: подлежит ли добавлению в «волшебный» витамин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3" name="chimes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040" y="409320"/>
            <a:ext cx="8325000" cy="66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99"/>
                </a:solidFill>
                <a:latin typeface="Arial"/>
              </a:rPr>
              <a:t>Калий</a:t>
            </a:r>
            <a:endParaRPr b="0" lang="en-US" sz="5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14200" y="1571760"/>
            <a:ext cx="8701200" cy="52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1. Необходим для нормального функционирования всех мышц, особенно сердечной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Устраняет отеки, способствует выводу воды из организма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Регулирует артериальное давление и сердечный ритм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Обеспечивает прохождение импульса по нервной системе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2. Суточная потребность: 3 – 5 г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3. Продукты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7" name="Рисунок 22" descr="Курагана белом фо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4143240"/>
            <a:ext cx="928800" cy="100044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23" descr="Черносливна белом фон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72080" y="4124160"/>
            <a:ext cx="1014480" cy="10195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24" descr="Изюмна белом фоне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0" y="4143240"/>
            <a:ext cx="905040" cy="10004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25" descr="Фасольна белом фоне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285920" y="4143240"/>
            <a:ext cx="1133280" cy="100980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27" descr="Горохна белом фоне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000680" y="4143240"/>
            <a:ext cx="1352520" cy="10004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28" descr="Миндальна белом фоне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8001000" y="4143240"/>
            <a:ext cx="928800" cy="100044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29" descr="Фундукна белом фоне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1280" y="5357880"/>
            <a:ext cx="1000440" cy="9428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30" descr="Кедровые орехина белом фоне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286080" y="535788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31" descr="Картофельна белом фоне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572080" y="5357880"/>
            <a:ext cx="986040" cy="92880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32" descr="Арахис на белом фонена белом фоне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2286000" y="5357880"/>
            <a:ext cx="857160" cy="92880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33" descr="Морская капустана белом фоне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2714760" y="4148280"/>
            <a:ext cx="1042920" cy="106668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35" descr="Горчицана белом фоне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429080" y="5357880"/>
            <a:ext cx="1000080" cy="92880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36" descr="Чечевицана белом фоне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1143000" y="5357880"/>
            <a:ext cx="1000080" cy="9288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37" descr="Кешьюна белом фоне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6715080" y="5357880"/>
            <a:ext cx="1119240" cy="8571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38" descr="Грецкий орехна белом фоне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7929720" y="5357880"/>
            <a:ext cx="1143000" cy="928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1" name="chimes.wav"/>
      </p:stSnd>
    </p:sndAc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040" y="409320"/>
            <a:ext cx="8325000" cy="66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Arial"/>
              </a:rPr>
              <a:t>Сера</a:t>
            </a:r>
            <a:endParaRPr b="0" lang="en-US" sz="5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3366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Необходима для здоровья кожи, ногтей и волос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Оказывает противоаллергическое действие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Играет роль в свертывании крови, очищает кровь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пособствует работе мозга, стимулирует клеточное дыхание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2. Суточная потребность: 1 г (поступает с белками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3. Продукты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4" name="Рисунок 18" descr="Индейкана белом фо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280" y="3857760"/>
            <a:ext cx="928800" cy="100476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9" descr="Говядина на белом фон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14280" y="4071960"/>
            <a:ext cx="1171800" cy="7858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20" descr="Свининана белом фоне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71840" y="3929040"/>
            <a:ext cx="1038240" cy="92880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26" descr="Баранина на белом фонена белом фоне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786120" y="4000680"/>
            <a:ext cx="1152720" cy="85716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34" descr="Печеньна белом фоне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43680" y="4000680"/>
            <a:ext cx="1157040" cy="85716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39" descr="Кроликна белом фоне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429240" y="4000680"/>
            <a:ext cx="1076400" cy="85716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40" descr="Щукана белом фоне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643880" y="4214880"/>
            <a:ext cx="1357200" cy="64296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41" descr="Морской окуньна белом фоне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42920" y="5000760"/>
            <a:ext cx="1209600" cy="6001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42" descr="Сардинана белом фоне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214280" y="5857920"/>
            <a:ext cx="1138320" cy="57132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43" descr="Горбушана белом фоне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2214720" y="5000760"/>
            <a:ext cx="1095120" cy="77148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44" descr="Горохна белом фоне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3357720" y="5857920"/>
            <a:ext cx="1066680" cy="64764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45" descr="Камбалана белом фоне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500720" y="5000760"/>
            <a:ext cx="1214280" cy="77616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46" descr="Зубаткана белом фоне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5429160" y="5929200"/>
            <a:ext cx="1443240" cy="42876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47" descr="Курицана белом фоне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6786720" y="5000760"/>
            <a:ext cx="1000080" cy="74772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48" descr="Яйцо куринноена белом фоне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8001000" y="5572080"/>
            <a:ext cx="928800" cy="785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1" name="chimes.wav"/>
      </p:stSnd>
    </p:sndAc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99cc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5"/>
          <p:cNvSpPr/>
          <p:nvPr/>
        </p:nvSpPr>
        <p:spPr>
          <a:xfrm>
            <a:off x="8101080" y="198900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8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66"/>
                </a:solidFill>
                <a:latin typeface="Arial"/>
              </a:rPr>
              <a:t>Цинк</a:t>
            </a:r>
            <a:endParaRPr b="0" lang="en-US" sz="5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6600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тиоксидант. Препятствует образованию агрессивных активных форм кислорода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ладает антивирусным и антитоксическим свойствами, участвует в борьбе с инфекционными болезнями и раком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ходит в состав 200 ферментов и гормона инсулина, регулирующего уровень сахара в крови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нк способствует росту и развитию человека, необходим для полового созревания и продолжения потомства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еспечивает возможность ощущать вкус, запах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660066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точная потребность: 10 – 15 мг. (но не более 25 мг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660066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дукты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72" name="Рисунок 16" descr="Печеньна белом фо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6120" y="5000760"/>
            <a:ext cx="1157040" cy="71424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17" descr="Кедровые орехина белом фон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00480" y="5000760"/>
            <a:ext cx="771480" cy="73332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18" descr="Камамбер и брина белом фоне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14880" y="5000760"/>
            <a:ext cx="1123920" cy="71424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19" descr="Арахис на белом фонена белом фоне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500800" y="5000760"/>
            <a:ext cx="885600" cy="71424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20" descr="Говядина на белом фоне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572160" y="5000760"/>
            <a:ext cx="1171800" cy="72360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21" descr="Фасольна белом фоне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867800" y="4705200"/>
            <a:ext cx="1133280" cy="100980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22" descr="Горохна белом фоне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42920" y="5929200"/>
            <a:ext cx="1066680" cy="64764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23" descr="Баранина на белом фонена белом фоне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357200" y="5857920"/>
            <a:ext cx="1152720" cy="81900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24" descr="Свининана белом фоне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676600" y="5786280"/>
            <a:ext cx="1038240" cy="85752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25" descr="Пшеницана белом фоне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929040" y="5857920"/>
            <a:ext cx="1143000" cy="79992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26" descr="Гречкана белом фоне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5286240" y="5929200"/>
            <a:ext cx="1143000" cy="71460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27" descr="Ячневая крупана белом фоне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6676920" y="5786280"/>
            <a:ext cx="895320" cy="85752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28" descr="Овсянкана белом фоне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7767720" y="5929200"/>
            <a:ext cx="1162080" cy="733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7" name="chimes.wav"/>
      </p:stSnd>
    </p:sndAc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90040" y="480600"/>
            <a:ext cx="8325000" cy="66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99"/>
                </a:solidFill>
                <a:latin typeface="Arial"/>
              </a:rPr>
              <a:t>Железо</a:t>
            </a:r>
            <a:endParaRPr b="0" lang="en-US" sz="5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14200" y="1571760"/>
            <a:ext cx="8701200" cy="52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1. Участвует в образовании гемоглобина в крови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Участвует в образовании иммунных защитных клеток, требуется для «работы» витаминов группы В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Участвует в синтезе гормонов щитовидной железы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Входит в состав 70 различных ферментов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2. Суточная потребность: 10 – 18 мг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3. Продукты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87" name="Рисунок 18" descr="Фисташкина белом фо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3920" y="4071960"/>
            <a:ext cx="1276200" cy="51912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19" descr="Печеньна белом фон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4200" y="4714920"/>
            <a:ext cx="1285920" cy="71424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20" descr="Шпинат на белом фоне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14680" y="4357800"/>
            <a:ext cx="838080" cy="114300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26" descr="Чечевица на белом фоне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786040" y="4214880"/>
            <a:ext cx="933480" cy="77148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34" descr="Горох на белом фоне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000680" y="4214880"/>
            <a:ext cx="1071360" cy="78588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39" descr="Гречка на белом фоне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286240" y="4214880"/>
            <a:ext cx="1214640" cy="79524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40" descr="Голубь на белом фоне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767640" y="4214880"/>
            <a:ext cx="1019160" cy="81900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41" descr="Ячневая крупа на белом фоне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8001000" y="4214880"/>
            <a:ext cx="1000080" cy="107136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42" descr="Овсянка на белом фоне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42920" y="5572080"/>
            <a:ext cx="1143000" cy="87624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43" descr="Пшеницана белом фоне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1500120" y="5643720"/>
            <a:ext cx="1143000" cy="79992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44" descr="Арахис на белом фоне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2928960" y="5643720"/>
            <a:ext cx="928800" cy="82836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45" descr="Кизил на белом фоне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119480" y="5643720"/>
            <a:ext cx="952560" cy="78084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46" descr="Кешью на белом фоне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5310360" y="5643720"/>
            <a:ext cx="1118880" cy="78552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47" descr="Кукуруза на белом фоне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6572160" y="5572080"/>
            <a:ext cx="1071720" cy="85716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48" descr="Кедровые орехи на белом фоне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7786800" y="5572080"/>
            <a:ext cx="1214280" cy="876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1" name="chimes.wav"/>
      </p:stSnd>
    </p:sndAc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0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324640" cy="7858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66ccff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Arial"/>
              </a:rPr>
              <a:t>Бром</a:t>
            </a:r>
            <a:endParaRPr b="0" lang="en-US" sz="5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1. Регулирует процессы торможения и возбуждения ЦНС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Входит в состав желудочного сока, оказывает влияние на его кислотность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Активизирует половую функцию, регулирует количество сперматозоидов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2. Суточная потребность: 0,5 – 1 г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3. Продукты</a:t>
            </a:r>
            <a:r>
              <a:rPr b="1" lang="ru-RU" sz="2400" spc="-1" strike="noStrike">
                <a:solidFill>
                  <a:srgbClr val="4d004d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                                 </a:t>
            </a: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… </a:t>
            </a: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а также полезно дышать морским воздухом!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04" name="Рисунок 3" descr="Пшеницана белом фо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71800" y="3786120"/>
            <a:ext cx="1143000" cy="80028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4" descr="Ячневая крупана белом фон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19560" y="4286160"/>
            <a:ext cx="895320" cy="85752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5" descr="Бобына белом фонена белом фоне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90840" y="3786120"/>
            <a:ext cx="1209960" cy="74304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6" descr="Фасольна белом фоне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572080" y="4214880"/>
            <a:ext cx="1133640" cy="100944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7" descr="Арахис на белом фонена белом фоне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58000" y="3714840"/>
            <a:ext cx="1071720" cy="100008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8" descr="Миндальна белом фоне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8072280" y="4143240"/>
            <a:ext cx="1000440" cy="100044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9" descr="Фундукна белом фоне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00120" y="4929120"/>
            <a:ext cx="1114560" cy="94320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10" descr="Макаронные изделияна белом фоне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114640" y="4929120"/>
            <a:ext cx="1028520" cy="94320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11" descr="Сметанана белом фоне"/>
          <p:cNvPicPr/>
          <p:nvPr/>
        </p:nvPicPr>
        <p:blipFill>
          <a:blip r:embed="rId17"/>
          <a:stretch/>
        </p:blipFill>
        <p:spPr>
          <a:xfrm>
            <a:off x="4357800" y="4929120"/>
            <a:ext cx="1038240" cy="96696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12" descr="Сельдьна белом фоне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7000920" y="5214960"/>
            <a:ext cx="1685880" cy="719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0" name="chimes.wav"/>
      </p:stSnd>
    </p:sndAc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1:34:22Z</dcterms:created>
  <dc:creator>user</dc:creator>
  <dc:description/>
  <dc:language>en-US</dc:language>
  <cp:lastModifiedBy>SuperGrandMa</cp:lastModifiedBy>
  <dcterms:modified xsi:type="dcterms:W3CDTF">2018-05-11T06:21:50Z</dcterms:modified>
  <cp:revision>171</cp:revision>
  <dc:subject/>
  <dc:title>Слайд 1</dc:title>
</cp:coreProperties>
</file>